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A2E-E81B-4533-8FA3-9BF968BF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0AA-77FD-4519-AD8F-6C0F8FA1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DD3-F88E-4295-B5CD-D9C40AD7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CC7C-33D3-4084-8972-24C56C31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321-E3D3-4CBD-8A0F-22D9D1ED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7B31-ED46-4E91-B0D4-ED854F58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604-2512-4099-A3FD-6FDC9913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E7F-78F9-44B1-8C48-03343207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4915-587D-43CE-8305-CE6DF378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E83C-377B-4386-A3F6-7BAFA42E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D611-074D-4583-95AF-79A51D2C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68F-22CE-4897-A40D-615DEDAA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A6D5-A20C-4D1A-8D0F-196AB94A035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nfac.com/" TargetMode="External"/><Relationship Id="rId2" Type="http://schemas.openxmlformats.org/officeDocument/2006/relationships/hyperlink" Target="http://www.asetramadrid.com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ne.es/" TargetMode="External"/><Relationship Id="rId2" Type="http://schemas.openxmlformats.org/officeDocument/2006/relationships/hyperlink" Target="http://www.madrid.org/iestadis/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amaramadrid.es/" TargetMode="External"/><Relationship Id="rId2" Type="http://schemas.openxmlformats.org/officeDocument/2006/relationships/hyperlink" Target="http://www.paginasamarillas.es/" TargetMode="External"/><Relationship Id="rId3" Type="http://schemas.openxmlformats.org/officeDocument/2006/relationships/hyperlink" Target="http://es.qdq.com/" TargetMode="External"/><Relationship Id="rId4" Type="http://schemas.openxmlformats.org/officeDocument/2006/relationships/hyperlink" Target="http://es.qdq.com/" TargetMode="External"/><Relationship Id="rId5" Type="http://schemas.openxmlformats.org/officeDocument/2006/relationships/hyperlink" Target="http://es.qdq.com/" TargetMode="External"/><Relationship Id="rId6" Type="http://schemas.openxmlformats.org/officeDocument/2006/relationships/hyperlink" Target="http://es.qdq.com/" TargetMode="External"/><Relationship Id="rId7" Type="http://schemas.openxmlformats.org/officeDocument/2006/relationships/hyperlink" Target="http://es.qdq.com/" TargetMode="External"/><Relationship Id="rId8" Type="http://schemas.openxmlformats.org/officeDocument/2006/relationships/hyperlink" Target="http://www.emprendedores.es/" TargetMode="External"/><Relationship Id="rId9" Type="http://schemas.openxmlformats.org/officeDocument/2006/relationships/hyperlink" Target="http://www.consumer.es/" TargetMode="External"/><Relationship Id="rId10" Type="http://schemas.openxmlformats.org/officeDocument/2006/relationships/hyperlink" Target="http://www.bbva.com/TLBB/tlbb/jsp/esp/conozca/expbbva/index.jsp" TargetMode="External"/><Relationship Id="rId11" Type="http://schemas.openxmlformats.org/officeDocument/2006/relationships/hyperlink" Target="http://www.lacaixa.comunicacions.com/se/index.php?idioma=esp" TargetMode="External"/><Relationship Id="rId12" Type="http://schemas.openxmlformats.org/officeDocument/2006/relationships/hyperlink" Target="http://www.lacaixa.comunicacions.com/se/index.php?idioma=esp" TargetMode="External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ESTUDIO DE MERCADO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79132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FUENTES INFORMACIÓN:AUTOMOCIÓN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FAC (Asociación Nacional de Fabricantes de Automóviles y Camiones)  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ttp://www.anfac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ETRA (Asociación de Talleres de Madrid)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http://www.asetramadrid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guaces: http://www.desguace.biz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stas del sector: http://www.marcamotor.com/inde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autocity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293"/>
                </a:solidFill>
                <a:latin typeface="Arial"/>
              </a:rPr>
              <a:t>MÉTODOS Y TÉCNICAS DE INVESTIGACIÓN DE MERCADO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5202360"/>
        </p:xfrm>
        <a:graphic>
          <a:graphicData uri="http://schemas.openxmlformats.org/drawingml/2006/table">
            <a:tbl>
              <a:tblPr/>
              <a:tblGrid>
                <a:gridCol w="4114800"/>
                <a:gridCol w="1944720"/>
                <a:gridCol w="21700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ÉTODO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CN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2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ANTITAT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étodos Estadísticos, buscan principalmente datos de cantida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CUEST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EFON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NET (WEB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ROS (Paneles, Estudios Ómnibus, Test de Productos o Pruebas, Audiencias..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ALITAT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étodos psicoanalíticos, buscan principalmente opiniones e ideas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OBSERVACIÓN PARTICIPAN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ENTREVISTA EN PROFUND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GRUPO DE DISCUS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OTROS (Test Proyectivos, Asociación Libre, et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INFORME FINAL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CION DEL MACROENTORN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TORES DEMOGRÁF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TORES POLÍTICO-LEG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TORES ECONÓM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TORES SOCIO-CULTUR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TORES TECNOLÓG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CION DEL MICROENTO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¿Qué es un Estudio de Mercado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ste en una recogida 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ció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istematizada y su posteri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áli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que nos ayude en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ma de deci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d293"/>
                </a:solidFill>
                <a:latin typeface="Arial"/>
              </a:rPr>
              <a:t>DISEÑO DE LA INVESTIGACIÓN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1.- DETERMINACIÓN DE OBJE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.- RECOGIDA DE INFORMACIÓN (Metodologí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.1.- DETERMINACIÓN DE LA FUENTES DE INFORMACIÓ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 PRIMAR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 SECUNDAR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.2.- DETERMINACIÓN DE MÉTODOS Y TÉCNICAS DE INVESTIG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UANTITATIVOS (Encuestas, Panel, Ómnibu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-CUALITATIVOS (Observación, Entrevista, Grup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.3.- TRABAJO DE CAMP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3.- ANÁLISIS E INTERPRETACIÓN DE LA INFORM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4.- REDACCIÓN DE INFORME FI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293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38080" y="1905120"/>
          <a:ext cx="8007480" cy="4294080"/>
        </p:xfrm>
        <a:graphic>
          <a:graphicData uri="http://schemas.openxmlformats.org/drawingml/2006/table">
            <a:tbl>
              <a:tblPr/>
              <a:tblGrid>
                <a:gridCol w="2813040"/>
                <a:gridCol w="5194440"/>
              </a:tblGrid>
              <a:tr h="22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ROENTORN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S DEMOGRÁF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S POLÍTICO-LEG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S ECONÓMI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S SOCIO-CULTUR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S TECNOLÓGICOS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8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ROENTORN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EN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COMPET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EEDO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OS SUSTITUTIV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RRERAS DE ENTR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293"/>
                </a:solidFill>
                <a:latin typeface="Arial"/>
              </a:rPr>
              <a:t>MACROENTORNO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809640"/>
          <a:ext cx="8229600" cy="6013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OGRÁFICO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bl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uctura de la Población por Sexo, Edad, Nivel Estudios, Estado Civil..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nc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evos Asentamien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ÍTICOS - LEGALE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ncias Polític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ción Polít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mbios (privatizaciones, regulaciones…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ulación Legal de las Actividades (Normativ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misos, Autoriz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ONÓMICO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ción Económica Actu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isiones a Corto y medio plaz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a de empleo y desemple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vel de Rent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olución tipos de interé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O-CULTURAL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ncias o Modas socio-culturales (ecología, cuidado imagen personal, nuevas tecnologí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vel Cultu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S TECNOLÓGICO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ción Actu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olución Tecnológic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293"/>
                </a:solidFill>
                <a:latin typeface="Arial"/>
              </a:rPr>
              <a:t>MICROENTORNO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125360"/>
          <a:ext cx="8229600" cy="5639040"/>
        </p:xfrm>
        <a:graphic>
          <a:graphicData uri="http://schemas.openxmlformats.org/drawingml/2006/table">
            <a:tbl>
              <a:tblPr/>
              <a:tblGrid>
                <a:gridCol w="2602080"/>
                <a:gridCol w="3313080"/>
                <a:gridCol w="2314440"/>
              </a:tblGrid>
              <a:tr h="20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EN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x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es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l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vel de Rent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vel Educativ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ábitos de compr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st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úmero de Empre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liz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 de Empre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mañ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dad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ET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Identific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Tamaño de la Empre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Clien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Características de su Servicio (Ventajas competitiva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Nivel de Preci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Condiciones de Pa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Formas de Distribu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Comunicació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EEDO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Identific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Ubic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Gama de Product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lazos de Entreg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Condiciones de Pa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Forma de Distribu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ervicio de Postven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Calidad..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fd293"/>
                </a:solidFill>
                <a:latin typeface="Arial"/>
              </a:rPr>
              <a:t>FUENTES DE INFORMACIÓN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143000" y="1447920"/>
          <a:ext cx="6807240" cy="4103640"/>
        </p:xfrm>
        <a:graphic>
          <a:graphicData uri="http://schemas.openxmlformats.org/drawingml/2006/table">
            <a:tbl>
              <a:tblPr/>
              <a:tblGrid>
                <a:gridCol w="2332080"/>
                <a:gridCol w="4475160"/>
              </a:tblGrid>
              <a:tr h="14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ARI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Aquellos documentos, informes, estudios que </a:t>
                      </a:r>
                      <a:r>
                        <a:rPr b="1" i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roduce o elabora  la empresa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ra un estudio de mercado concre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jemplos: Encuestas, Análisis de Clientes, Grupos de Discusión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UNDARI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es, estadísticas, estudios, listados, bases de datos, que son realizados por una </a:t>
                      </a:r>
                      <a:r>
                        <a:rPr b="1" i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ntidad ajena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la empresa y que está puede utilizar para realizar sus investigaciones de merc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jemplos: Estadísticas del INE, Informes de Bancos y Cajas de Ahorro, Padrones Municipales, Estudios de Audiencias, Datos Cámaras de Comercio.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FUENTES DE INFORMACIÓN SECUNADARIA</a:t>
            </a:r>
            <a:br>
              <a:rPr sz="2800"/>
            </a:br>
            <a:r>
              <a:rPr b="0" lang="en-US" sz="2000" spc="-1" strike="noStrike">
                <a:solidFill>
                  <a:srgbClr val="dfd293"/>
                </a:solidFill>
                <a:latin typeface="Arial"/>
              </a:rPr>
              <a:t>(ORGANISMOS PÚBLICOS)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stituto Nacional de Estadística (INE): </a:t>
            </a:r>
            <a:r>
              <a:rPr b="0" lang="es-ES" sz="20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ttp://www.ine.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anco de España: http://www.bde.es/webbde/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rvicio Público de Empleo Estatal (Inem): http://www.sepe.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stituto de Estadísticas de la Comunidad de Madrid: </a:t>
            </a:r>
            <a:r>
              <a:rPr b="0" lang="es-ES" sz="20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http://www.madrid.org/iestadi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293"/>
                </a:solidFill>
                <a:latin typeface="Arial"/>
              </a:rPr>
              <a:t>FUENTES DE INFORMACIÓN SECUNADARIA</a:t>
            </a:r>
            <a:br>
              <a:rPr sz="2800"/>
            </a:br>
            <a:r>
              <a:rPr b="0" lang="en-US" sz="2000" spc="-1" strike="noStrike">
                <a:solidFill>
                  <a:srgbClr val="dfd293"/>
                </a:solidFill>
                <a:latin typeface="Arial"/>
              </a:rPr>
              <a:t>(PRIVADOS)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ámara de Comercio de Madrid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ttp://www.camaramadrid.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ielsen: http://es.nielsen.com/site/index.s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áginas Amarillas: 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http://www.paginasamarillas.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DQ: 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http://es.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qdq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.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6"/>
              </a:rPr>
              <a:t>com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7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mprendedores: 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8"/>
              </a:rPr>
              <a:t>http://www.emprendedores.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sumer: 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9"/>
              </a:rPr>
              <a:t>http://www.consumer.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BVA: 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10"/>
              </a:rPr>
              <a:t>http://www.bbva.com/TLBB/tlbb/jsp/esp/conozca/expbbva/index.j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aixa: 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11"/>
              </a:rPr>
              <a:t>http://www.lacaixa.comunicacions.com/se/index.php?idioma=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12"/>
              </a:rPr>
              <a:t>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nsa Económica: Expansión: http://www.expansion.com/economia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inco Días: http://www.cincodias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1:51:38Z</dcterms:created>
  <dc:creator>Benjamin Rua</dc:creator>
  <dc:description/>
  <dc:language>en-US</dc:language>
  <cp:lastModifiedBy>Maribel</cp:lastModifiedBy>
  <dcterms:modified xsi:type="dcterms:W3CDTF">2012-01-10T09:55:39Z</dcterms:modified>
  <cp:revision>19</cp:revision>
  <dc:subject/>
  <dc:title>ESTUDIO DE MERCADO</dc:title>
</cp:coreProperties>
</file>